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52E7211-0B82-4175-8C06-30B6EB600D9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FC6BD1F-5F1C-443D-A674-64CB0B7C81C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78734CA-6E3F-4CCD-8AE8-B404B327C19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43165B8-2E3F-48F3-B040-632939D1765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I_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with permission of the IBIS Subcommittee on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royleven</cp:lastModifiedBy>
  <dcterms:modified xsi:type="dcterms:W3CDTF">2006-01-10T16:52:07Z</dcterms:modified>
  <cp:revision>22</cp:revision>
  <dc:subject/>
  <dc:title>Using the IBIS Quality Checklist</dc:title>
</cp:coreProperties>
</file>